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05F5-8925-4912-9195-E5DADCD0B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8285-F728-48F8-952A-368CE7906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1FB7-3B5C-4613-A328-A5239CF96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0DA0-0D44-4205-92D5-61A0A0D85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C0CD-EDDE-4DB5-9F46-53BF28E80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0CB8-D5FC-4D81-AA19-396D246E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176C-9B34-4E1A-AA61-ABB34D68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5E0F-5C99-4027-AC42-0974E2BD3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527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200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527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200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F850-ED52-4F4A-97A8-56D722B63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782F-3A40-4BFA-AE1D-836618519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45D4-544D-478F-9290-5193729E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3E32-583E-49A5-A728-8486D083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7C3E-6861-4464-A867-24034592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7CFF-69ED-41C8-A2D1-B5304318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6C8F-9416-432B-B8D2-E53723A6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FCA1-7BB5-4E51-A0CF-D7D7E435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96C5-5BFE-442C-8483-8398B966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9483-DF5A-4542-ACF2-EF404CD2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DCE2-4ADF-4544-B120-D6452F1D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3827-32D3-4E18-8FAD-AF02B6AF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3290-AC04-4240-9C02-C0088D95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527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200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527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200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FFD5-DBC8-4686-96BC-A24A7100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4A44-6AF0-45B1-9FDF-7183E57D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F24E-23C4-4272-9610-738232BA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42B0-A34A-4D5C-BA96-017C6564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D73C-2413-418F-ABC2-DD34004E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4F43-3441-478F-85A4-0F366FF0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31E6-0708-47FC-9B29-71B48970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1840-FA7F-4672-9435-20B8F617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53760" indent="-251280">
              <a:spcBef>
                <a:spcPts val="799"/>
              </a:spcBef>
              <a:buClr>
                <a:srgbClr val="0e18f3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05840" indent="-200880">
              <a:spcBef>
                <a:spcPts val="799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07960" indent="-200880">
              <a:spcBef>
                <a:spcPts val="7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10440" indent="-20088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2535-0056-4A39-993C-81B3BD034A7D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53760" indent="-251280">
              <a:spcBef>
                <a:spcPts val="799"/>
              </a:spcBef>
              <a:buClr>
                <a:srgbClr val="0e18f3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05840" indent="-200880">
              <a:spcBef>
                <a:spcPts val="799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07960" indent="-200880">
              <a:spcBef>
                <a:spcPts val="7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10440" indent="-20088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7BAF-9C26-415D-A9A5-A5CF74856E7F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Espaces Unité 6 p. 192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entury Gothic"/>
              </a:rPr>
              <a:t>Allons-y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. 192 ex. 1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1. Nous avons mangé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2. Papa a acheté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3. J’ai pris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4. Vous avez essayé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5. Mes parents ont célébré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6. Ils ont fait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7. Ma soeur a bu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8. Nous avons eu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1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. 192 ex. 2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1. Tu as écouté mon CD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Non je </a:t>
            </a: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n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’ai </a:t>
            </a: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pas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 écouté ton CD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2. Mathieu a fait ses devoirs? 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Non, il </a:t>
            </a: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n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’a </a:t>
            </a: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pas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 fait ses devoir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3. Elles ont couru dans le parc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Non, elles </a:t>
            </a: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n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’ont </a:t>
            </a: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pas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 couru …… 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4. Tu as parlé aux profs?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Non, je </a:t>
            </a: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n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’ai </a:t>
            </a: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pas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 parlé aux profs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. 192 ex. 2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5. Yassim a appris ….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Non il </a:t>
            </a: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n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’a </a:t>
            </a: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pas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 appris ……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6. Marie et Lise  ont  été  ……..? 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Non, elles </a:t>
            </a: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n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’ont </a:t>
            </a: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pas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 été ………..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7. Vous  avez emmené …….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Non, nous </a:t>
            </a: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n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’avons </a:t>
            </a: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pas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 emmené …… 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8. Tu as eu  …..?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Non, je </a:t>
            </a: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n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’ai </a:t>
            </a:r>
            <a:r>
              <a:rPr b="1" lang="en-US" sz="3200" spc="-1" strike="noStrike">
                <a:solidFill>
                  <a:srgbClr val="0000ff"/>
                </a:solidFill>
                <a:latin typeface="Century Gothic"/>
              </a:rPr>
              <a:t>pas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 eu ……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1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21:41:48Z</dcterms:created>
  <dc:creator/>
  <dc:description/>
  <dc:language>en-US</dc:language>
  <cp:lastModifiedBy>Viviane Grebert</cp:lastModifiedBy>
  <cp:lastPrinted>2009-04-22T19:24:48Z</cp:lastPrinted>
  <dcterms:modified xsi:type="dcterms:W3CDTF">2011-11-02T21:55:20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